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21.gif" ContentType="image/gif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png" ContentType="image/png"/>
  <Override PartName="/ppt/media/image24.gif" ContentType="image/gif"/>
  <Override PartName="/ppt/media/image27.png" ContentType="image/png"/>
  <Override PartName="/ppt/media/image14.png" ContentType="image/png"/>
  <Override PartName="/ppt/media/image1.jpeg" ContentType="image/jpeg"/>
  <Override PartName="/ppt/media/image23.gif" ContentType="image/gif"/>
  <Override PartName="/ppt/media/image3.png" ContentType="image/png"/>
  <Override PartName="/ppt/media/image22.gif" ContentType="image/gif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60E8-C694-4B45-93B6-BA6FD5FDF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0C45-C3D0-4CF7-9361-074822DD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4116-BC2C-4AF9-8ACC-4A1EA8F4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C54D-4CEC-4B06-96EB-E58B4C7BB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ED8C-D54C-4364-81F7-8BE98751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7B0D-0D7C-4391-B013-56CEC3DB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9D78-C6C1-488C-9DA1-B293F049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3076-DD0E-4770-B07D-74462B3B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0358-E0EF-4E9F-9724-F7EAC959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B233-7344-48E7-95A3-FDA18013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B0C8-D627-4AF0-9967-A0742537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9FE5-23C8-4C53-A89A-12A7D006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519A-8443-445A-83BB-355B74E534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vntech.ru/7382-yaponiya-14-iyulya-v-yaponii-proizoshlo-ocherednoe-zemletryasenie.html" TargetMode="External"/><Relationship Id="rId3" Type="http://schemas.openxmlformats.org/officeDocument/2006/relationships/hyperlink" Target="http://myhdplayer.ru/kak-vybrat-stacionarnyj-mediapleer.html/vopros" TargetMode="External"/><Relationship Id="rId4" Type="http://schemas.openxmlformats.org/officeDocument/2006/relationships/hyperlink" Target="http://ria.ru/infografika/20111227/528012457.html" TargetMode="External"/><Relationship Id="rId5" Type="http://schemas.openxmlformats.org/officeDocument/2006/relationships/hyperlink" Target="http://fotki.yandex.ru/users/slavafoto/view/138256/" TargetMode="External"/><Relationship Id="rId6" Type="http://schemas.openxmlformats.org/officeDocument/2006/relationships/hyperlink" Target="http://stroitel2011.ru/?q=&#1057;&#1085;&#1077;&#1078;&#1085;&#1072;&#1103;+&#1083;&#1072;&#1074;&#1080;&#1085;&#1072;&amp;n=5" TargetMode="External"/><Relationship Id="rId7" Type="http://schemas.openxmlformats.org/officeDocument/2006/relationships/hyperlink" Target="http://stroitel2011.ru/?q=&#1057;&#1085;&#1077;&#1078;&#1085;&#1072;&#1103;+&#1083;&#1072;&#1074;&#1080;&#1085;&#1072;&amp;n=5" TargetMode="External"/><Relationship Id="rId8" Type="http://schemas.openxmlformats.org/officeDocument/2006/relationships/hyperlink" Target="http://stroitel2011.ru/?q=&#1057;&#1085;&#1077;&#1078;&#1085;&#1072;&#1103;+&#1083;&#1072;&#1074;&#1080;&#1085;&#1072;&amp;n=5" TargetMode="External"/><Relationship Id="rId9" Type="http://schemas.openxmlformats.org/officeDocument/2006/relationships/hyperlink" Target="http://www.yaplakal.com/forum3/st/25/topic337321.html" TargetMode="External"/><Relationship Id="rId10" Type="http://schemas.openxmlformats.org/officeDocument/2006/relationships/hyperlink" Target="http://news.lala24.net/tag/&#1103;&#1087;&#1086;&#1085;&#1080;&#1080;/page/2/" TargetMode="External"/><Relationship Id="rId11" Type="http://schemas.openxmlformats.org/officeDocument/2006/relationships/hyperlink" Target="http://news.lala24.net/tag/&#1103;&#1087;&#1086;&#1085;&#1080;&#1080;/page/2/" TargetMode="External"/><Relationship Id="rId12" Type="http://schemas.openxmlformats.org/officeDocument/2006/relationships/hyperlink" Target="http://news.lala24.net/tag/&#1103;&#1087;&#1086;&#1085;&#1080;&#1080;/page/2/" TargetMode="External"/><Relationship Id="rId13" Type="http://schemas.openxmlformats.org/officeDocument/2006/relationships/hyperlink" Target="http://news.lala24.net/tag/&#1103;&#1087;&#1086;&#1085;&#1080;&#1080;/page/2/" TargetMode="External"/><Relationship Id="rId14" Type="http://schemas.openxmlformats.org/officeDocument/2006/relationships/hyperlink" Target="http://www.i-g-t.org/2011/10/26/&#1090;&#1072;&#1080;&#1083;&#1072;&#1085;&#1076;-&#1091;&#1093;&#1086;&#1076;&#1080;&#1090;-&#1087;&#1086;&#1076;-&#1074;&#1086;&#1076;&#1091;/" TargetMode="External"/><Relationship Id="rId15" Type="http://schemas.openxmlformats.org/officeDocument/2006/relationships/hyperlink" Target="http://www.i-g-t.org/2011/10/26/&#1090;&#1072;&#1080;&#1083;&#1072;&#1085;&#1076;-&#1091;&#1093;&#1086;&#1076;&#1080;&#1090;-&#1087;&#1086;&#1076;-&#1074;&#1086;&#1076;&#1091;/" TargetMode="External"/><Relationship Id="rId16" Type="http://schemas.openxmlformats.org/officeDocument/2006/relationships/hyperlink" Target="http://www.i-g-t.org/2011/10/26/&#1090;&#1072;&#1080;&#1083;&#1072;&#1085;&#1076;-&#1091;&#1093;&#1086;&#1076;&#1080;&#1090;-&#1087;&#1086;&#1076;-&#1074;&#1086;&#1076;&#1091;/" TargetMode="External"/><Relationship Id="rId17" Type="http://schemas.openxmlformats.org/officeDocument/2006/relationships/hyperlink" Target="http://altaisat.com/forums/index.php?topic=1603.400" TargetMode="External"/><Relationship Id="rId18" Type="http://schemas.openxmlformats.org/officeDocument/2006/relationships/hyperlink" Target="http://altaisat.com/forums/index.php?topic=1603.400" TargetMode="External"/><Relationship Id="rId19" Type="http://schemas.openxmlformats.org/officeDocument/2006/relationships/hyperlink" Target="http://altaisat.com/forums/index.php?topic=1603.400" TargetMode="External"/><Relationship Id="rId2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ozor.kharkov.ua/proisshestviya/katastrofy/1079464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Урок 2.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ЗЕМЛЕТРЯСЕНИЕ</a:t>
            </a:r>
            <a:br>
              <a:rPr sz="66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7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5300280"/>
            <a:ext cx="84960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Голуб Марина Геннадьевна учитель ОБЖ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 категория МОКУ Таскинская ООШ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1310637561_67921.jpg"/>
          <p:cNvPicPr/>
          <p:nvPr/>
        </p:nvPicPr>
        <p:blipFill>
          <a:blip r:embed="rId2"/>
          <a:stretch/>
        </p:blipFill>
        <p:spPr>
          <a:xfrm>
            <a:off x="2408400" y="1908000"/>
            <a:ext cx="426060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24000" y="333360"/>
            <a:ext cx="48960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Типы разлом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3" descr="Razlom_Types.jpg"/>
          <p:cNvPicPr/>
          <p:nvPr/>
        </p:nvPicPr>
        <p:blipFill>
          <a:blip r:embed="rId2"/>
          <a:stretch/>
        </p:blipFill>
        <p:spPr>
          <a:xfrm>
            <a:off x="468360" y="1341360"/>
            <a:ext cx="2808360" cy="23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2" name="Рисунок 4" descr="Razlom_Types.jpg"/>
          <p:cNvPicPr/>
          <p:nvPr/>
        </p:nvPicPr>
        <p:blipFill>
          <a:blip r:embed="rId3"/>
          <a:stretch/>
        </p:blipFill>
        <p:spPr>
          <a:xfrm>
            <a:off x="5867280" y="1341360"/>
            <a:ext cx="2808360" cy="23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3" name="Рисунок 5" descr="Razlom_Types.jpg"/>
          <p:cNvPicPr/>
          <p:nvPr/>
        </p:nvPicPr>
        <p:blipFill>
          <a:blip r:embed="rId4"/>
          <a:stretch/>
        </p:blipFill>
        <p:spPr>
          <a:xfrm>
            <a:off x="3132000" y="4149720"/>
            <a:ext cx="2808360" cy="23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Тема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РАЖАЮЩИЕ ФАКТОР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ЗЕМЛЕТРЯСЕНИЙ И ИХ ПОСЛЕДСТВ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знакомиться    с поражающими факторами землетрясений и их последствия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Скругленный прямоугольник 3"/>
          <p:cNvSpPr/>
          <p:nvPr/>
        </p:nvSpPr>
        <p:spPr>
          <a:xfrm>
            <a:off x="539640" y="333360"/>
            <a:ext cx="7993080" cy="64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Последствия землетряс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4"/>
          <p:cNvSpPr/>
          <p:nvPr/>
        </p:nvSpPr>
        <p:spPr>
          <a:xfrm>
            <a:off x="539640" y="1197000"/>
            <a:ext cx="5904000" cy="503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пасные геологические я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611280" y="3860640"/>
            <a:ext cx="5905440" cy="505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Цунами, навод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10" descr="0_21c10_28acc12e_XL.jpg"/>
          <p:cNvPicPr/>
          <p:nvPr/>
        </p:nvPicPr>
        <p:blipFill>
          <a:blip r:embed="rId2"/>
          <a:stretch/>
        </p:blipFill>
        <p:spPr>
          <a:xfrm>
            <a:off x="603360" y="1841400"/>
            <a:ext cx="2388960" cy="18828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1" descr="avalancha.jpg"/>
          <p:cNvPicPr/>
          <p:nvPr/>
        </p:nvPicPr>
        <p:blipFill>
          <a:blip r:embed="rId3"/>
          <a:stretch/>
        </p:blipFill>
        <p:spPr>
          <a:xfrm>
            <a:off x="6724800" y="1335240"/>
            <a:ext cx="2041200" cy="26035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2" descr="0582af0cc39f.jpg"/>
          <p:cNvPicPr/>
          <p:nvPr/>
        </p:nvPicPr>
        <p:blipFill>
          <a:blip r:embed="rId4"/>
          <a:stretch/>
        </p:blipFill>
        <p:spPr>
          <a:xfrm>
            <a:off x="3560760" y="1908000"/>
            <a:ext cx="2455920" cy="17431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3" descr="1303715856_rrssrssrs-srsrrisrsrjos_-rrrrr-rrrssrr-ssrrrrjo.jpg"/>
          <p:cNvPicPr/>
          <p:nvPr/>
        </p:nvPicPr>
        <p:blipFill>
          <a:blip r:embed="rId5"/>
          <a:stretch/>
        </p:blipFill>
        <p:spPr>
          <a:xfrm>
            <a:off x="1322280" y="4645080"/>
            <a:ext cx="2481480" cy="1908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4" descr="thailand-flood-2010-1.jpg"/>
          <p:cNvPicPr/>
          <p:nvPr/>
        </p:nvPicPr>
        <p:blipFill>
          <a:blip r:embed="rId6"/>
          <a:stretch/>
        </p:blipFill>
        <p:spPr>
          <a:xfrm>
            <a:off x="4419720" y="4645080"/>
            <a:ext cx="256068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90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Скругленный прямоугольник 3"/>
          <p:cNvSpPr/>
          <p:nvPr/>
        </p:nvSpPr>
        <p:spPr>
          <a:xfrm>
            <a:off x="539640" y="333360"/>
            <a:ext cx="7993080" cy="64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Последствия землетряс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539640" y="1413000"/>
            <a:ext cx="2952720" cy="503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ж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468360" y="3645000"/>
            <a:ext cx="6767640" cy="504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вреждение и разрушение з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6" descr="00.jpg"/>
          <p:cNvPicPr/>
          <p:nvPr/>
        </p:nvPicPr>
        <p:blipFill>
          <a:blip r:embed="rId2"/>
          <a:stretch/>
        </p:blipFill>
        <p:spPr>
          <a:xfrm>
            <a:off x="3992400" y="1262160"/>
            <a:ext cx="3378240" cy="22129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7" descr="haiti.jpg"/>
          <p:cNvPicPr/>
          <p:nvPr/>
        </p:nvPicPr>
        <p:blipFill>
          <a:blip r:embed="rId3"/>
          <a:stretch/>
        </p:blipFill>
        <p:spPr>
          <a:xfrm>
            <a:off x="4853160" y="4432320"/>
            <a:ext cx="3078000" cy="19875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8" descr="untitled.png"/>
          <p:cNvPicPr/>
          <p:nvPr/>
        </p:nvPicPr>
        <p:blipFill>
          <a:blip r:embed="rId4"/>
          <a:stretch/>
        </p:blipFill>
        <p:spPr>
          <a:xfrm>
            <a:off x="963720" y="4432320"/>
            <a:ext cx="304164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70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Скругленный прямоугольник 3"/>
          <p:cNvSpPr/>
          <p:nvPr/>
        </p:nvSpPr>
        <p:spPr>
          <a:xfrm>
            <a:off x="539640" y="333360"/>
            <a:ext cx="7993080" cy="64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Последствия землетряс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611280" y="1413000"/>
            <a:ext cx="5905440" cy="503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вмирование и гибель 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1116000" y="5084640"/>
            <a:ext cx="3960720" cy="505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а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6" descr="the-big-picture-109-1.jpg"/>
          <p:cNvPicPr/>
          <p:nvPr/>
        </p:nvPicPr>
        <p:blipFill>
          <a:blip r:embed="rId2"/>
          <a:stretch/>
        </p:blipFill>
        <p:spPr>
          <a:xfrm>
            <a:off x="5357880" y="4071960"/>
            <a:ext cx="306072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7" descr="esh_22867.jpg"/>
          <p:cNvPicPr/>
          <p:nvPr/>
        </p:nvPicPr>
        <p:blipFill>
          <a:blip r:embed="rId3"/>
          <a:stretch/>
        </p:blipFill>
        <p:spPr>
          <a:xfrm>
            <a:off x="822240" y="2127240"/>
            <a:ext cx="348156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Скругленный прямоугольник 1"/>
          <p:cNvSpPr/>
          <p:nvPr/>
        </p:nvSpPr>
        <p:spPr>
          <a:xfrm>
            <a:off x="539640" y="333360"/>
            <a:ext cx="7993080" cy="64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Последствия землетряс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611280" y="1413000"/>
            <a:ext cx="5905440" cy="503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варии на промышленных предприятия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"/>
          <p:cNvSpPr/>
          <p:nvPr/>
        </p:nvSpPr>
        <p:spPr>
          <a:xfrm>
            <a:off x="755640" y="5300640"/>
            <a:ext cx="4321080" cy="503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ранспортные ава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3780000" y="3068640"/>
            <a:ext cx="4608360" cy="503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ыбросы опасны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6" descr="3903286-japan-quakeleakage.jpg"/>
          <p:cNvPicPr/>
          <p:nvPr/>
        </p:nvPicPr>
        <p:blipFill>
          <a:blip r:embed="rId2"/>
          <a:stretch/>
        </p:blipFill>
        <p:spPr>
          <a:xfrm>
            <a:off x="603360" y="2414520"/>
            <a:ext cx="3004920" cy="238932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7" descr="137_1206-1.jpg"/>
          <p:cNvPicPr/>
          <p:nvPr/>
        </p:nvPicPr>
        <p:blipFill>
          <a:blip r:embed="rId3"/>
          <a:stretch/>
        </p:blipFill>
        <p:spPr>
          <a:xfrm>
            <a:off x="5505480" y="4211640"/>
            <a:ext cx="311472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ые поражающие факторы землетряс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ичные поражающие факторы землетряс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ервичные поражающие факто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езкие  толч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лебания земной  поверх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астяжение и проседание гру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широкие трещины  в  грунте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бвалы,  камнепады,  большие  ополз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нежные лавины, грязевые пото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цунами и сел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Вторичные поражающие факто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вреждения  и  разрушения  зда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 пожары,  взрывы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ыбросы  вредных  веществ  на  разрушенных  объектах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ранспортные  аварии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ыход  из  строя  систем  жизнеобеспечения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  результате  прорыва  гидротехнических  и водопроводных сооружений возможны наводнения, в том числе катастрофически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Задание: соединить стрелками взаимосвязанные явл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99680" y="1947600"/>
            <a:ext cx="1530360" cy="58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одземные толч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3132000" y="1989000"/>
            <a:ext cx="1419480" cy="44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ж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48360" y="1989000"/>
            <a:ext cx="1419120" cy="44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Метеор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236000" y="1989000"/>
            <a:ext cx="1419120" cy="44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улк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08360" y="3141720"/>
            <a:ext cx="2808360" cy="654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емлетряс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4508640"/>
            <a:ext cx="141912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тор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43280" y="4508640"/>
            <a:ext cx="141912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еятельность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4437000"/>
            <a:ext cx="14191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в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80360" y="4508640"/>
            <a:ext cx="14191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льный ве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362800" cy="679320"/>
          </a:xfrm>
          <a:prstGeom prst="rect">
            <a:avLst/>
          </a:prstGeom>
          <a:solidFill>
            <a:srgbClr val="000000"/>
          </a:solidFill>
          <a:ln w="9360">
            <a:solidFill>
              <a:srgbClr val="1f49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Бывают ли землетрясения на Лун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j0182769"/>
          <p:cNvPicPr/>
          <p:nvPr/>
        </p:nvPicPr>
        <p:blipFill>
          <a:blip r:embed="rId2"/>
          <a:stretch/>
        </p:blipFill>
        <p:spPr>
          <a:xfrm>
            <a:off x="324000" y="3789360"/>
            <a:ext cx="1984320" cy="2500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j0219080"/>
          <p:cNvPicPr/>
          <p:nvPr/>
        </p:nvPicPr>
        <p:blipFill>
          <a:blip r:embed="rId3"/>
          <a:stretch/>
        </p:blipFill>
        <p:spPr>
          <a:xfrm>
            <a:off x="324000" y="1125360"/>
            <a:ext cx="2131920" cy="2160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j0303441"/>
          <p:cNvPicPr/>
          <p:nvPr/>
        </p:nvPicPr>
        <p:blipFill>
          <a:blip r:embed="rId4"/>
          <a:stretch/>
        </p:blipFill>
        <p:spPr>
          <a:xfrm>
            <a:off x="7407360" y="4653000"/>
            <a:ext cx="1736640" cy="15508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2771640" y="1197000"/>
            <a:ext cx="352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ый лунный сейсмограф был установлен американцами в 1969 г. Сейчас имеются свидетельства десятков лунотрясений, исходящих из ее недр, не говоря о десятков сотрясений от метеоритных ударов и ударов рак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2627280" y="4724280"/>
            <a:ext cx="424980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ще больше загадок таят в себе Марс и Венера. На этих планетах, как оказалось, тоже происходят сотряс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j0219072"/>
          <p:cNvPicPr/>
          <p:nvPr/>
        </p:nvPicPr>
        <p:blipFill>
          <a:blip r:embed="rId5"/>
          <a:stretch/>
        </p:blipFill>
        <p:spPr>
          <a:xfrm>
            <a:off x="7164360" y="2781360"/>
            <a:ext cx="1173240" cy="1189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j0219073"/>
          <p:cNvPicPr/>
          <p:nvPr/>
        </p:nvPicPr>
        <p:blipFill>
          <a:blip r:embed="rId6"/>
          <a:stretch/>
        </p:blipFill>
        <p:spPr>
          <a:xfrm>
            <a:off x="7097760" y="1268280"/>
            <a:ext cx="117468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3"/>
          <p:cNvSpPr/>
          <p:nvPr/>
        </p:nvSpPr>
        <p:spPr>
          <a:xfrm>
            <a:off x="395280" y="189000"/>
            <a:ext cx="8353440" cy="59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личину и мощность (энергию, выделившуюся при землетрясении) характеризует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магнитуда землетряс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торую определяют по показаниям специальных приборов 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кале Рихтер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кала имеет значения от 1 до 9 бал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Интенсивность землетряс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т.е. его воздействие на окружающую среду (уровень разрушений), определяют по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кале Меркал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кала Меркали имеет градации от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до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II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л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4" descr="326009008.jpg"/>
          <p:cNvPicPr/>
          <p:nvPr/>
        </p:nvPicPr>
        <p:blipFill>
          <a:blip r:embed="rId2"/>
          <a:stretch/>
        </p:blipFill>
        <p:spPr>
          <a:xfrm>
            <a:off x="179280" y="836640"/>
            <a:ext cx="4572000" cy="51847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5" descr="326009008.jpg"/>
          <p:cNvPicPr/>
          <p:nvPr/>
        </p:nvPicPr>
        <p:blipFill>
          <a:blip r:embed="rId3"/>
          <a:stretch/>
        </p:blipFill>
        <p:spPr>
          <a:xfrm>
            <a:off x="4932360" y="189000"/>
            <a:ext cx="388944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Меры для уменьшения потерь от землетряс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95280" y="1557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сли вы проживаете в сейсмически активном районе, то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заблаговременно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знакомьтесь с планом эвакуации из зда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азместите мебель так, чтобы она не могла упасть на спальные места, загородить двер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Шкафы, полки прочно прикрепите к стенам, к полу, надежно закрепить люстры и светильники;</a:t>
            </a: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Меры для уменьшения потерь от землетряс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дготовьте самые необходимые вещи на случай эвакуации и храните их в месте, известном всем членам семьи (документы,  радиоприемник на батарейках, запас консервов и питьевой воды, аптечка, электрический фонарь, ведро с песком, огнетушитель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е загромождайте вещами вход в квартиру, коридоры и лестничные площадк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Меры для уменьшения потерь от землетряс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пределите наиболее безопасные места (в квартире, в школе),  в которых можно переждать толчки: проемы капитальных внутренних стен, углы, образованные внутренними капитальными стенами, ванные комнат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Хранить емкости с опасными веществами так, чтобы они не могли упасть и разбиться при колебании зд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ть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amp; 2.2. – 2.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просите родителей научить вас отключать электричество, газ, воду. Нарисуйте схему вашей квартиры и отметьте на ней места отключения электричества, газа и во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Рисунок 3" descr="Clipart-Cartoon-Design-05.gif"/>
          <p:cNvPicPr/>
          <p:nvPr/>
        </p:nvPicPr>
        <p:blipFill>
          <a:blip r:embed="rId2"/>
          <a:stretch/>
        </p:blipFill>
        <p:spPr>
          <a:xfrm>
            <a:off x="6284880" y="4376880"/>
            <a:ext cx="218268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Закончи предлож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- Сегодня я узнал…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        - Урок дал мне для              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жизни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- Было интересно…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        - Я научился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- Было трудно…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        - У меня получилось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- Я выполнял задания…        - Я смог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- Я понял, что…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        - Я попробую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- Теперь я могу…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        - Меня удивило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- Я почувствовал, что…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        - Мне захотелось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ы безопасности жизнедеятельности. 7 кл.: Учебник для общеобразовательных учреждения/ С.Н. Вангородский, В.Н.Латчук, В.В.Марков, М.И.Кузнецов. – М.: Дрофа, 20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ivntech.ru/7382-yaponiya-14-iyulya-v-yaponii-proizoshlo-ocherednoe-zemletryasenie.htm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рта Японии с указанием эпицентра землетряс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myhdplayer.ru/kak-vybrat-stacionarnyj-mediapleer.html/vopro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к вопро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ria.ru/infografika/20111227/528012457.htm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шкала измерений землетряс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fotki.yandex.ru/users/slavafoto/view/138256/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амнепа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stroitel2011.ru/?q=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Снежная+лавина&amp;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n=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нежная лав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www.yaplakal.com/forum3/st/25/topic337321.htm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трещины и провалы зем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news.lala24.net/tag/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японии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page/2/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цун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www.i-g-t.org/2011/10/26/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таиланд-уходит-под-воду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аводн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altaisat.com/forums/index.php?topic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=1603.400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жар после землетрясения в Япон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dozor.kharkov.ua/proisshestviya/katastrofy/1079464.htm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вреждение зда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ufo-nlo.ucoz.ru/index/zemletrjasenie_na_gaiti_2010/0-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азрушенный д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inosmi.ru/bbc_co_uk_russian/20111024/176513979.htm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пасение из под зава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singlenews.ru/theme/incident/97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мужчина с девочкой на рук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edu54.ru/node/31146?size=preview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нига на ножк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spas-extreme.ru/images/multimedia/4z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арта сейсмоопасных районов Росс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http://yaushev.com/archives/2878 дозиметрический контроль детей (последствия землетрясения и цунами) фотографии из Япон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http://www.epochtimes.ru/content/view/48746/4/ Землетрясение послужило причиной ДТП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Задание: соединить стрелками взаимосвязанные явл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99680" y="1947600"/>
            <a:ext cx="1530360" cy="58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одземные толч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3132000" y="1989000"/>
            <a:ext cx="1419480" cy="44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ж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48360" y="1989000"/>
            <a:ext cx="1419120" cy="44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Метеор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989000"/>
            <a:ext cx="1419120" cy="44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улк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43280" y="3141720"/>
            <a:ext cx="2808360" cy="654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емлетряс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4508640"/>
            <a:ext cx="141912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тор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43280" y="4508640"/>
            <a:ext cx="141912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еятельность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19640" y="4437000"/>
            <a:ext cx="14191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в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80360" y="4508640"/>
            <a:ext cx="14191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льный ве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63640" y="2492280"/>
            <a:ext cx="115272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292720" y="2349360"/>
            <a:ext cx="719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435640" y="2349360"/>
            <a:ext cx="2232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564000" y="3644640"/>
            <a:ext cx="28728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003280" y="3644640"/>
            <a:ext cx="863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260280"/>
            <a:ext cx="91440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К какой группе из опасны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иродных явлений относятся землетрясени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Подземные толчки и колебания поверхности Земли –это 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Назвите основные виды землетрясени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Каковы причины землетрясени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Как называется прибор для  обнаружения и регистрации землетрясени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 Где появился первый сейсмограф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.  Назвать основные показател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змерения силы землетряс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.  Очаг землетрясения или точка под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Землей -это…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  Прямо над гипоцентром на  поверхности земли находится…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. Территория, известных и ожидаемых  очагов землетрясений –это…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. Назвать «загадку природы», где никогда не было землетрясени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2. Может ли изменение в поведении  животных являться прогнозом  землетрясений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Геофизиче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Землетряс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Тектонические, внутриплитовые, вулканические, обвальные, деятельность челове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деятельность человека, пустоты, вулкан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Сейсмогра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Кита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. Магнитуда, единицы измерения шкал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ихтера и шкала Меркалл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.Гипоцент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. Эпицент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.Сейсоопасная з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1. Антаркти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2. Да, потому что они очень чувствительны к этому явлению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0-6- «3», 7-9- «4», 10-12- «5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3" descr="4z2.jpg"/>
          <p:cNvPicPr/>
          <p:nvPr/>
        </p:nvPicPr>
        <p:blipFill>
          <a:blip r:embed="rId2"/>
          <a:stretch/>
        </p:blipFill>
        <p:spPr>
          <a:xfrm>
            <a:off x="250920" y="730080"/>
            <a:ext cx="8569080" cy="6121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9640" y="1551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 каких  районах  мира  наиболее  вероятны  землетрясения? Посмотрите на карту и назовите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рта литосферных пли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4" descr="plates-rus.gif"/>
          <p:cNvPicPr/>
          <p:nvPr/>
        </p:nvPicPr>
        <p:blipFill>
          <a:blip r:embed="rId2"/>
          <a:stretch/>
        </p:blipFill>
        <p:spPr>
          <a:xfrm>
            <a:off x="208080" y="933480"/>
            <a:ext cx="880272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95280" y="260280"/>
            <a:ext cx="8353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Тихоокеанский пояс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хватывает кольцом акваторию океана, по периферии которой расположены сейсмически активные области Аляски, Алеутских островов, Камчатки, Курильских островов, Японии, Филиппин, Новой Зеландии, Южной, Центральной и Северной Америки и Гавайских остров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Средиземноморско-Трансазиатский пояс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янется от островов Зеленого мыса в Атлантике, через районы Северной Африки, Португалии, Италии, Греции, Турции, Ирана, юга СНГ, Гималаев, Центрального Китая, Индонез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04:58:07Z</dcterms:created>
  <dc:creator>DmitriyD</dc:creator>
  <dc:description/>
  <dc:language>en-US</dc:language>
  <cp:lastModifiedBy>Пользователь</cp:lastModifiedBy>
  <dcterms:modified xsi:type="dcterms:W3CDTF">2018-11-21T04:14:13Z</dcterms:modified>
  <cp:revision>46</cp:revision>
  <dc:subject/>
  <dc:title>Урок 2. ЗЕМЛЕТРЯСЕНИЕ 7 класс</dc:title>
</cp:coreProperties>
</file>